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F70-58A9-47FA-8A60-5275AE6F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626-4FEC-4FDA-8D23-F6D2CAE6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D5DAE-A188-4366-A791-0B0E89C9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A12F0-5B26-44F4-BB88-93AEEF67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A6BCA-2A5F-434F-8249-A3077EBD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10DEA-9282-4B2E-A891-2580BCDD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A4B8A-18A5-4E4B-A236-94D00DD8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E41F5-017B-4660-8988-A59CBA48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72869-CF02-4575-B413-5A43225D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82987-E170-4616-AFA9-1C34E15F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6BC31-051E-4566-A5AD-A1948BFD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E4F08-118C-467F-975B-8D744FD1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A4E-BCFB-4ED6-B879-34F75F43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912AA-8B64-4802-89B5-3A6627C2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6EDEF-8CEF-4AE2-979A-1FAFF814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8DF7D-8450-4D7A-BC12-3623504E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0311A-30EE-4D4C-9C1F-CFA6755B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7CEFD-704B-4D04-BDBD-51E0C4EE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78228-5ECE-4B61-91DD-A2017E51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74BBE-52A4-4F97-96B8-FEB015F1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09D9B-29D6-4995-AFBF-52301CD7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8A95A-3AB6-4BC4-8340-7C490B34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31099-8579-4252-A3A7-356EF445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D8E-DC79-41A3-9CF3-FEEC3796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F2D3C-4E5D-413C-B0F0-86AEB3BC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C7CE0-F0CD-4F6B-8937-4840CD5E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D2D3C-0619-4390-9C9E-949621C8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4A76A-B1B0-45D8-907A-C66913EE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3059F-D58B-4573-85B7-B6A6C8FD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36C3D-DEF2-42D5-B7EE-BE96522D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25C11-267C-461A-A822-84881B2A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99180-C2F9-46FD-88C8-EB7C07F1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BD543-9A8C-40E2-A261-32B0732D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93CB4-AD96-432D-81C4-26E409CF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9233-82B7-47FE-A4EF-FC1BD229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BC030-AF17-4F0F-B7A7-938C1353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FC6E8-B9E9-411C-939E-8B0B2343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814B2-42AD-45F5-9F90-A32CBC21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FD4D5-26C4-40C9-BB66-18C0ABDF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0B3D1-80DF-4637-BAEA-7CA21CC7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DCF05-D2B4-476F-B008-D0C6145F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78CE6-59B3-4466-BFB5-457C64FB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BB372-FE45-4865-B8C8-45AB52D5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3E14D-7742-44C9-8A43-9AF93AA4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A885E-81CB-49C9-8083-EE2C905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5A7A-54E4-47E0-A4B4-D7B87B38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F7C7E-376D-438C-84A5-08C07BA1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63718-0A3A-49C2-96EE-A32FAE56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EAA58-2A67-4E05-A67A-3C899B4E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A1BF7-91DB-4575-8382-A9C993BA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109F7-F706-4088-A4F1-61F39141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90300-4858-4BDA-8D9B-7CDA4749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0AB04-D569-481F-812A-AEED67FD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ACDB9-512D-4486-8B14-F7205529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82C9F-8CE6-47AC-995E-983B6DD9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E728A-8631-4E7A-9CC1-DF647C05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22E9-801C-4084-A186-0ABACD46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AD7F3-BF76-4AF3-8EDB-074E1A33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C5464-56F5-4C9A-819B-5D8C622A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F109D-138A-4E0D-8E1F-6C1CF9EA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92194-E5E1-4E0C-BECB-42557F2F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65ED8-0334-4B5D-B45E-18A52CA5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692EF-2E6F-4D91-9C20-B2233357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3DE0E-3DA8-4026-9A79-414EE4A5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326562-1B41-46EE-B307-CE2FD3A9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1D51A-E78A-4675-BA86-2F7CF2A3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36D4C-5EA4-4F73-AE2A-E0933647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B447-48F3-4252-A642-12F2965F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96C6C0-1AD6-428F-B7EA-70B62ABE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839B1-7DA0-4A2D-950C-4C18C50E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E0408-6B3B-4EEC-8C86-469F7E79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3E7F9-297E-45FE-90AF-F800BA94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FCF0D-DF4A-456C-ABA9-27EEBD37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AD608-2162-4899-B514-E48A6689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8AC85-0088-4D6C-BCA5-9D6F8A08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2F3E3-3B02-44F7-BFC4-B8E26166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727EB-7F2C-4C98-A9EB-76B77937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4C10C-E5E5-46D4-8D3E-F3CA6266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2F45-D490-460A-AECA-A061DC36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EDD27-DA35-4609-BE96-9F4BC27C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40119-0400-4FFF-AC12-3A9496F5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E5280-39B9-4316-8F51-D99320CD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F52D4-3B81-4449-B63B-620E7B9F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39429-84CD-4193-B52C-03BAD6E1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F123E-C1FB-4C47-888F-EAAD5E4B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45FD8-C6E2-45DE-A127-D947D142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6A7CE-5FEC-4EAA-8800-2ED637C7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73156-1B4B-49E6-AFEE-E7D8F40E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B1C3B-1361-48A1-BB54-BF7860A9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DC0B-82F5-4960-8A22-B065404F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C6EC0-2D69-44CB-931D-7ED0587C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51D403-172E-48BE-9312-22169369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21CFCF-0F7E-43EF-8BCD-660C8DAC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1DBFB3-AD83-4BE5-B90F-FD4F483B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23094-E946-4D4A-8272-2A417DDC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2342E-656E-497A-8B78-A3479B4F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AABBFB-38B0-43BB-BB2A-610EC4AA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E960D-488D-45A2-B2B0-B4E0869B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DC6005-E655-4895-84F5-1F549A90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B8E26-5E14-4F25-8B96-F4DE56C2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C08E-8F38-49E6-9134-419E6983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C06BA-9135-4B92-B43A-18AB7BA5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58545-E9E7-41C8-8E32-FB105905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32FE79-643E-4B5F-BF12-F0AA194A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FC545-BC76-4191-AA60-F12D3A78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8803E-9DAF-4C9D-A8ED-9299FAE0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6B5B7-3C1B-4F0D-A395-00C3FF49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920ED-92E8-44F4-827C-A67DF23B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EFBB26-B971-4E3B-A151-448642DF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9D402-CAFA-4E16-A161-306DDC9C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E7C2A-A1B6-41FD-909E-4BA3CA6D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76D-3E85-4E4D-ABED-902327E3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B29D-3568-42FB-B013-CA3317A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5281C5-55B6-48DF-9320-3E35FF91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B7BB5-14D0-4B8C-94F0-BD486EA6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B4BDD-C7D2-4AB4-93E6-DE7E3861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00E37B-920C-40E6-897E-0C7F5027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9C3F7-D653-4970-B39F-9A9BE73A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52223-2707-4DAF-8917-44E43F50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E9654-F928-47A4-9A52-8B0C9F02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3D0ECF-4C86-4E77-AAE9-47F99DC1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0D55E-BA2E-4129-B27B-AC4F0FF9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9D20B-4D82-4D04-93EE-4C08BA96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3A60-95DF-4EA7-AA85-036A5AEC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0D08D-A374-42F2-BFB4-6F52E0FD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76BA8-FDE7-48B0-AD7B-BF46A68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7DE050-EC37-4EC9-AF04-0B84006C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7E89AB-53FF-4990-8CE3-D6C74B28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92FF8-D953-442C-A507-40D0A64B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179D8-7D18-4FC0-9DCF-BA1AD069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F4BC8-9960-4ED9-AC30-95456AE6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FE7FF-AF08-4B1E-9DCA-4F039C1E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551BE1-C866-4E2A-9E17-5A63E45F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378C75-640D-4B83-9D62-CD2CC184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6C10-0C95-41EB-B08C-79E0F9E9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43903-F671-477B-AEF1-D108509C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7FE1A-ED99-4CEB-96F0-5700C606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22E0B-33B4-4BBE-839E-BD8A91B0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D0AD1-625A-42F2-8993-3D11B462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35ADE6-8BAA-47C8-8D64-1C2FF718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B2A2F-AF77-4990-B57F-AEE70000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4B84A1-EF5C-46DF-A86C-22DAF971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5B7FB-9B7B-4220-A18C-503E19AD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F5C325-4F54-40DC-816D-85BB2715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8CA91C-ABBA-4FC5-AFFD-3EF82E5C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282D-06A7-4472-97C2-CEF3D208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3CAE3-FD51-48B4-91DA-9DC320BE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813F15-AA4E-4D06-B3A2-1C792762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BC5AFA-3F3D-45DB-BC5D-AAC70F86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DE4484-7CF2-47B8-869F-01B81CF2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B10E6A-9A89-4C64-ADFC-F50A0747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D5A3A-4AC0-4E97-8A50-BDC429B3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30864-3DF9-4074-9645-7D80E9C6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25E2D-8598-461D-AF25-31099A88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37B799-B108-49A0-B979-15AF00E4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36C316-3552-4F5B-A9EF-981C459D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C3DE-1871-49C7-83A3-A5E8F598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3BB68C-A7EB-4F42-9B34-9588D78C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52A748-D078-4E3F-945C-5FAD7A69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D42EDE-7DFC-426D-AE2C-4DA3D54A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F26DB5-9EE0-4173-AF17-AFCF2229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752333-194F-4FC4-B683-D2ED2050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8365F3-1596-4349-ADD7-30F6556A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E441CD-9B35-482B-9BF5-260C4E7E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B02813-59C6-476A-B74B-EF5F61A0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21452-5842-43A5-ABF5-AE2643AE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3DF7C2-AAC0-4F3E-B303-B53363AF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9F6B3-2ED0-480E-ABE3-D9ABBCB8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D73C0-5959-4378-9A09-B6C8E5E5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51B94A-97B5-4FB7-8F7C-61144E0D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555FC4-4649-437D-B4E9-943C91B9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DDF6-A58D-487C-A461-3289437F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911B0-10F0-4EBC-BF2A-00783183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FD664-F41A-4635-AA5B-2397F6F0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7BDCC-B139-423A-B912-28A1635C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2AE-455E-4C60-B6ED-1D467DE2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A8BC-3048-49D0-893E-B74CB635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5C5B-F2A4-488E-B6D7-62EF84B6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D843-5ECB-4668-8F59-13B05447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11A5-A51B-4837-94FB-21766074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F87D7-3AE7-4693-B8F0-0B0D8BAA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8109-7F59-4352-8A61-AEC4EDC4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B33A-17BF-47DC-8551-4FF3A97A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365C-90BD-4502-9C54-0F3B405B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A4D2-21C1-4A5C-A75E-0EC2FED5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A51E0-A601-471E-BD83-844E3E06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160-74CB-4088-8395-64C14EF1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F1511-2A93-4D95-8185-7168603D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FF81-D8CD-406D-8190-F579EC87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241E0-B0C0-457F-9DB0-EB18D2E6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8FD38-C6C3-4379-86C8-82B28BF5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F3DC9-F47E-4D83-8CD1-079B8D68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8B0AB-47A2-4DFA-B900-F55FE416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A308-FC50-4D12-A2BF-688D8A96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9517-1D1E-4BC5-96B5-CBF19D32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81E70-11C7-47B9-8A2F-4EADB170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8A0A8-877B-487F-AADB-B77BBDB3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163-0348-4012-89D1-C9FE110A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9EE69-78F9-46F6-8305-175C1313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1211C-27AB-4B01-81D6-FA9BD43F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284F7-7ADA-4C22-92CD-42A79FF9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1697B-D003-4D4C-ADE6-B62C617E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DD027-FBBA-41B3-B4D4-A4C87F74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256E9-984F-473C-BEC9-2F03A352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8905F-181A-4DD7-91A7-A9593325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A0728-B562-4F85-BA1B-C1294B3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0937-AC83-4685-B7D9-B4BAE99E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52D51-1D5C-4498-8A95-415B2843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403-4DC5-4BAA-BBEE-C8459D72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7BDBE-E5DE-4D8D-B955-68CB5C6B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E919A-F231-4349-B4BA-A0529566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935FD-94AF-47BD-A7C1-37D3DE28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2D6B4-3730-483C-9C7C-3DDCE288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F048F-C0C4-4D2B-A9C1-1678EAE0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7937D-0F38-4970-A87F-9C0B7E95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E70A2-7F57-4A2B-B630-26F24025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3E8F6-9E77-4325-8BBB-A6237287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F2A99-3B41-4FE2-B6DA-A905293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54A43-64A0-4CF6-9F66-5342EF00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C77-B913-4450-9148-07C683E7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3BEB6-F090-4B57-A53C-EC0F5EB4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D58B1-CDFD-4189-A3C1-B8DD50D0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AC9BC-AFC2-415F-B1AA-96A57AF2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3FD2A-44ED-47E7-9DFC-2EED2E9D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9993F-4191-4CFA-A8BA-9408F097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FFC02-FA67-41B0-91A1-C24D5520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EDE3-C141-4C3D-9719-69B338A0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A1DE3-53DC-4465-89BE-584DFCE9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A31DB-AC35-4EA1-8D5D-D05D6833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AAA23-976C-4B18-9670-5CF84823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078-BFFE-43D0-A6F3-5C39B1D6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23C1C-F578-4C31-8DD4-180761F8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116D6-FF7B-4B50-9200-C4A453F8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C7014-A088-47B8-982A-B792673D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5620A-4BF7-4111-89C1-CBC58F67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AEC03-C704-4801-9530-108BED45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AAF65-C265-47B1-84FF-ACF849CA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8B1D3-1442-481F-92C6-9018008C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1CD9A-BA88-43A4-9411-759A2B6B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2E7E0-47F1-471A-A01B-8B15966D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DF2DB-7130-472D-8C1A-B86781FD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1C4-DF05-4ADB-BD65-8BD4674B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F2D97-94CA-4EFB-8B26-C4D29DBD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8B28F-2A9E-4F28-BF8E-C45BB50B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DF58F-171C-4B84-9B6D-2263E456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0D64A-49F2-4043-881F-A35F09C9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F0774-A764-4D4D-8EC6-A7246D7C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55CFC-873F-4B20-A5A5-908A3428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EEAF7-2E42-4D2E-BB0A-71E10F76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969E8-2650-46FA-8B36-726A9C6C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E9B0F-9426-4BDC-A8F9-B3FE75A6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327A9-8DCF-4233-B207-B2628EB5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3761-85FD-42F2-883D-F30F5F1E4C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5240-4248-4AF4-84D7-53F5516B3E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0394-0E08-43EE-9E2C-DA3670FC47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C767-262D-48C8-8343-961A6806DC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4A42-FED8-44B0-9180-E3BC51C7DF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7A59-F051-4454-A9C1-7BAF79EF00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0BFD-1F76-46F2-9D55-3650A02374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F4E0-48EA-4D64-B44B-5CEE39980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BE8C-498C-4F4F-AA0A-4D6D8429C6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3C91-4335-434D-AFAE-35ABFCC41B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484A-7C7D-43EA-AF36-E5980F4FA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9DFA-DEF6-43B8-8108-9F7E018A7F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BEE2-0C3F-40C3-963C-7D879D9C7C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3FD2-E47F-4F03-86DC-28C2F5A074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2106-C034-4EB6-96C7-9DC374581B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5749-24A5-4D8A-B6BE-47B3598C0F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1534-A4F8-4290-804F-3257F62B56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6960-BE5F-4FD0-8001-B3A431A547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10B3-858E-41B5-9BCE-5BD0A73230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63B7-0388-4902-9330-2946AD6590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9B2E-B5E6-42B0-B04D-7B73DBCD15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EE34-B7C7-487C-A591-D3EAC47138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76EF-481A-482C-838B-DFC9071930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F0E5-70E9-4506-A8BB-377CE0C9AE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C0B1-1082-4A4B-949F-40C89A322D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B005-653F-4D7A-B607-61E9942D0D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5115-E8E3-4575-B68F-FF16D07E2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73DC-0CE9-4624-9AA3-8CEECEE71D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A7E8-0F14-4969-A01D-059758E04A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186E-46E9-4BCE-9780-641021DD77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2C02-60B4-4E92-918B-6DDA395EF5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0B38-EE20-4B82-9F54-5716A95E2B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F3CF-B12D-46EC-A5B0-AC49B82D80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4426-36F2-402B-BB23-6EFC901199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9167-8698-47DF-B257-B44C11123C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CFBE-F401-4B9F-A2C5-E10F2B903D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B1BC-2753-4082-B1C6-2502719779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4C86-ADED-46DA-B84A-85FD1E065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654A-EF58-4CB5-916F-23FF6389D6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FA1C-3582-41AC-9CF3-5990753114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43000" y="1844640"/>
            <a:ext cx="5058000" cy="10098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328920" y="3378240"/>
            <a:ext cx="24861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2231" descr=""/>
          <p:cNvPicPr/>
          <p:nvPr/>
        </p:nvPicPr>
        <p:blipFill>
          <a:blip r:embed="rId1"/>
          <a:stretch/>
        </p:blipFill>
        <p:spPr>
          <a:xfrm>
            <a:off x="581040" y="712800"/>
            <a:ext cx="7981920" cy="60292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5257800" cy="506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1042920" y="1844640"/>
            <a:ext cx="5257800" cy="506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1187280" y="2362320"/>
            <a:ext cx="5257800" cy="5061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1187280" y="2924280"/>
            <a:ext cx="5257800" cy="5061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6"/>
          <a:stretch/>
        </p:blipFill>
        <p:spPr>
          <a:xfrm>
            <a:off x="1042920" y="3486240"/>
            <a:ext cx="6408720" cy="5061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7"/>
          <a:stretch/>
        </p:blipFill>
        <p:spPr>
          <a:xfrm>
            <a:off x="1042920" y="406224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8"/>
          <a:stretch/>
        </p:blipFill>
        <p:spPr>
          <a:xfrm>
            <a:off x="971640" y="5734080"/>
            <a:ext cx="7704000" cy="5065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9"/>
          <a:stretch/>
        </p:blipFill>
        <p:spPr>
          <a:xfrm>
            <a:off x="900000" y="6323040"/>
            <a:ext cx="7704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图片 69633" descr=""/>
          <p:cNvPicPr/>
          <p:nvPr/>
        </p:nvPicPr>
        <p:blipFill>
          <a:blip r:embed="rId1"/>
          <a:stretch/>
        </p:blipFill>
        <p:spPr>
          <a:xfrm>
            <a:off x="1019160" y="1197000"/>
            <a:ext cx="7105680" cy="220968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69634" descr=""/>
          <p:cNvPicPr/>
          <p:nvPr/>
        </p:nvPicPr>
        <p:blipFill>
          <a:blip r:embed="rId2"/>
          <a:stretch/>
        </p:blipFill>
        <p:spPr>
          <a:xfrm>
            <a:off x="409680" y="3763800"/>
            <a:ext cx="8324640" cy="22575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3"/>
          <a:stretch/>
        </p:blipFill>
        <p:spPr>
          <a:xfrm>
            <a:off x="4773600" y="177336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4"/>
          <a:stretch/>
        </p:blipFill>
        <p:spPr>
          <a:xfrm>
            <a:off x="7423200" y="177336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5"/>
          <a:stretch/>
        </p:blipFill>
        <p:spPr>
          <a:xfrm>
            <a:off x="4788000" y="227664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6"/>
          <a:stretch/>
        </p:blipFill>
        <p:spPr>
          <a:xfrm>
            <a:off x="7380360" y="227664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7"/>
          <a:stretch/>
        </p:blipFill>
        <p:spPr>
          <a:xfrm>
            <a:off x="2050920" y="433548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8"/>
          <a:stretch/>
        </p:blipFill>
        <p:spPr>
          <a:xfrm>
            <a:off x="5205240" y="432108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9"/>
          <a:stretch/>
        </p:blipFill>
        <p:spPr>
          <a:xfrm>
            <a:off x="8158320" y="43369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10"/>
          <a:stretch/>
        </p:blipFill>
        <p:spPr>
          <a:xfrm>
            <a:off x="1677960" y="486900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11"/>
          <a:stretch/>
        </p:blipFill>
        <p:spPr>
          <a:xfrm>
            <a:off x="5565600" y="4869000"/>
            <a:ext cx="648000" cy="5061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12"/>
          <a:stretch/>
        </p:blipFill>
        <p:spPr>
          <a:xfrm>
            <a:off x="7812000" y="4869000"/>
            <a:ext cx="6476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18960" y="947880"/>
            <a:ext cx="8506080" cy="4962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5867280" y="3645000"/>
            <a:ext cx="1152720" cy="5061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003640" y="4249800"/>
            <a:ext cx="64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38280" y="804960"/>
            <a:ext cx="7867440" cy="52480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4184640" y="220500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5651640" y="220500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7178760" y="220500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4170240" y="285264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5637240" y="285264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7164360" y="285264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4184640" y="350028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9"/>
          <a:stretch/>
        </p:blipFill>
        <p:spPr>
          <a:xfrm>
            <a:off x="5651640" y="350028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0"/>
          <a:stretch/>
        </p:blipFill>
        <p:spPr>
          <a:xfrm>
            <a:off x="7178760" y="350028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1"/>
          <a:stretch/>
        </p:blipFill>
        <p:spPr>
          <a:xfrm>
            <a:off x="4184640" y="414972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2"/>
          <a:stretch/>
        </p:blipFill>
        <p:spPr>
          <a:xfrm>
            <a:off x="5651640" y="414972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3"/>
          <a:stretch/>
        </p:blipFill>
        <p:spPr>
          <a:xfrm>
            <a:off x="7178760" y="414972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4"/>
          <a:stretch/>
        </p:blipFill>
        <p:spPr>
          <a:xfrm>
            <a:off x="4184640" y="479736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5"/>
          <a:stretch/>
        </p:blipFill>
        <p:spPr>
          <a:xfrm>
            <a:off x="5651640" y="479736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6"/>
          <a:stretch/>
        </p:blipFill>
        <p:spPr>
          <a:xfrm>
            <a:off x="7178760" y="479736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7"/>
          <a:stretch/>
        </p:blipFill>
        <p:spPr>
          <a:xfrm>
            <a:off x="4170240" y="545940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8"/>
          <a:stretch/>
        </p:blipFill>
        <p:spPr>
          <a:xfrm>
            <a:off x="5637240" y="545940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9"/>
          <a:stretch/>
        </p:blipFill>
        <p:spPr>
          <a:xfrm>
            <a:off x="7164360" y="5459400"/>
            <a:ext cx="11937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76801" descr=""/>
          <p:cNvPicPr/>
          <p:nvPr/>
        </p:nvPicPr>
        <p:blipFill>
          <a:blip r:embed="rId1"/>
          <a:stretch/>
        </p:blipFill>
        <p:spPr>
          <a:xfrm>
            <a:off x="647640" y="2409840"/>
            <a:ext cx="7848720" cy="2038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4284720" y="2492280"/>
            <a:ext cx="934920" cy="506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5796000" y="2506680"/>
            <a:ext cx="934920" cy="506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7236000" y="2506680"/>
            <a:ext cx="934920" cy="506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4284720" y="3156120"/>
            <a:ext cx="934920" cy="5061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5796000" y="3170160"/>
            <a:ext cx="934920" cy="506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7236000" y="3170160"/>
            <a:ext cx="934920" cy="506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8"/>
          <a:stretch/>
        </p:blipFill>
        <p:spPr>
          <a:xfrm>
            <a:off x="4284720" y="3789360"/>
            <a:ext cx="93492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9"/>
          <a:stretch/>
        </p:blipFill>
        <p:spPr>
          <a:xfrm>
            <a:off x="5796000" y="3803760"/>
            <a:ext cx="934920" cy="5061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0"/>
          <a:stretch/>
        </p:blipFill>
        <p:spPr>
          <a:xfrm>
            <a:off x="7236000" y="3803760"/>
            <a:ext cx="9349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8373" descr=""/>
          <p:cNvPicPr/>
          <p:nvPr/>
        </p:nvPicPr>
        <p:blipFill>
          <a:blip r:embed="rId1"/>
          <a:stretch/>
        </p:blipFill>
        <p:spPr>
          <a:xfrm>
            <a:off x="247680" y="1638360"/>
            <a:ext cx="8648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7352" descr=""/>
          <p:cNvPicPr/>
          <p:nvPr/>
        </p:nvPicPr>
        <p:blipFill>
          <a:blip r:embed="rId1"/>
          <a:stretch/>
        </p:blipFill>
        <p:spPr>
          <a:xfrm>
            <a:off x="671400" y="1042920"/>
            <a:ext cx="7801200" cy="4772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3995640" y="234936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3995640" y="301140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3995640" y="371628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3995640" y="437976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3938760" y="5099040"/>
            <a:ext cx="136656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5506920" y="2335320"/>
            <a:ext cx="1224000" cy="5061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506920" y="2997360"/>
            <a:ext cx="1224000" cy="5061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5506920" y="370188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5506920" y="4365720"/>
            <a:ext cx="1224000" cy="5061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5450040" y="5084640"/>
            <a:ext cx="1366560" cy="506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7005600" y="236376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3"/>
          <a:stretch/>
        </p:blipFill>
        <p:spPr>
          <a:xfrm>
            <a:off x="7005600" y="302580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4"/>
          <a:stretch/>
        </p:blipFill>
        <p:spPr>
          <a:xfrm>
            <a:off x="7005600" y="373068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5"/>
          <a:stretch/>
        </p:blipFill>
        <p:spPr>
          <a:xfrm>
            <a:off x="7005600" y="439416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6"/>
          <a:stretch/>
        </p:blipFill>
        <p:spPr>
          <a:xfrm>
            <a:off x="6948360" y="5113440"/>
            <a:ext cx="13669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6324" descr=""/>
          <p:cNvPicPr/>
          <p:nvPr/>
        </p:nvPicPr>
        <p:blipFill>
          <a:blip r:embed="rId1"/>
          <a:stretch/>
        </p:blipFill>
        <p:spPr>
          <a:xfrm>
            <a:off x="233280" y="1352520"/>
            <a:ext cx="8677440" cy="4152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826920" y="5013360"/>
            <a:ext cx="59770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55300" descr=""/>
          <p:cNvPicPr/>
          <p:nvPr/>
        </p:nvPicPr>
        <p:blipFill>
          <a:blip r:embed="rId1"/>
          <a:stretch/>
        </p:blipFill>
        <p:spPr>
          <a:xfrm>
            <a:off x="250920" y="669960"/>
            <a:ext cx="85248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4276" descr=""/>
          <p:cNvPicPr/>
          <p:nvPr/>
        </p:nvPicPr>
        <p:blipFill>
          <a:blip r:embed="rId1"/>
          <a:stretch/>
        </p:blipFill>
        <p:spPr>
          <a:xfrm>
            <a:off x="666720" y="1386000"/>
            <a:ext cx="7810560" cy="40860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4277" descr=""/>
          <p:cNvPicPr/>
          <p:nvPr/>
        </p:nvPicPr>
        <p:blipFill>
          <a:blip r:embed="rId2"/>
          <a:stretch/>
        </p:blipFill>
        <p:spPr>
          <a:xfrm>
            <a:off x="652320" y="1866960"/>
            <a:ext cx="7810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57:2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